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7E3-70CF-4BB3-8B78-BF772B32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EA3-3732-4746-A84A-4715FF29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3CC-0729-4406-BC48-026AFAA7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CE9-DCB1-4C31-B409-1BE7B3B9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646-7B31-4E87-B59B-6844C48B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42F-BAB4-4C2E-8C2D-81A962F5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FEC-2A4D-411A-939A-B2C8FF57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5B3-5A84-4B56-9626-C79F7CD2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BCF-B45E-472E-A88D-25C5C72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10A-845A-4CBC-9C53-D34D327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549-DF2C-49D3-B0C0-538DAC1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DC4-10C5-47E0-853D-695652A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D28-8DED-42B9-B157-9FA3728FD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S Updat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66680"/>
            <a:ext cx="83818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rmed Leadership of COPS’ Working Group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draft PRR to reduce Initial Settlement from 17 to 10 days   Recommendation to approve Protocol changes passed   (Thanks to ERCOT for analysis of impact) This is COPS sub-committees first official a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iewed data impacts of PRR 548, ERCOT staff  presented data that will be provided to QSEs   MPs have additional needs for mis-match information outside of the ERCOT Settlement process   ERCOT staff to look for the best sol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explained the procedures used in the PUC ordered Tenaska / Direct Energy complaint settlement, giving MPs information allowing them to shadow this Resettl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Draft PRR recommended by DEWG to produce an additional report for the TDSPs to meet FERC filing requirements. COPS recommended to PRS to approve PRR 57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5-03-09T17:25:13Z</dcterms:modified>
  <cp:revision>123</cp:revision>
  <dc:subject/>
  <dc:title>Point-to-Point</dc:title>
</cp:coreProperties>
</file>